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1391-37D2-4C5C-9C79-3DEA73B4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CF91-B4C8-437B-A9D9-B94E9B3E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0B80-BC89-41A1-ADEC-609E9AA8D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0CB3-58B9-42BC-9A03-3C39079D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FA62-15EA-4460-9479-4051D2130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981A-D398-44E0-845E-BA6193EC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17AF-D9AA-4DA8-997E-AF2171A6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EF60-923D-471B-A835-0C24F84C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50C9-8953-45E9-A8D5-A91CD518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0AE6-20A0-438D-80AC-4FF4F1BF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04D3-FCE7-44A8-BC61-670DDBD8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333D-A13B-49FA-A844-F6F79C1E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17A8-64D7-4BC0-9796-E6CD2D5D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7B47-3FB5-449E-8C15-5141CE1E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6A99-4597-4E2E-BF7D-ABE8EDD7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01C4-1EBA-47B5-BBB1-656E2F4D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2302-603E-48CA-8822-9E8B60087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11B9-7E1B-4280-A984-B1E5A347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3217-7C8E-46CF-961D-A932E9DF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3DB6-9112-4E42-9E74-590A1EA4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4F2F-0792-48C8-8260-D170C506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E5C5-44DF-49CB-BF40-4F957725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F96C-6561-408C-BCD5-0CE427E9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074A-C416-46DC-B9B2-0113D7BE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A859-E28B-41C3-833C-CBE684A006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4CA8-3DA3-430E-B747-F72266C36A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O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 these tricky word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ot, amatur, collum, forein, Febuary, lic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t, amateur, column, foreign, February, licen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reewri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m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bout anyt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for quiz 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in letters 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ssignment-worth 2 test grade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 research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8:44:25Z</dcterms:created>
  <dc:creator>vhs</dc:creator>
  <dc:description/>
  <dc:language>en-US</dc:language>
  <cp:lastModifiedBy>vhs</cp:lastModifiedBy>
  <dcterms:modified xsi:type="dcterms:W3CDTF">2009-03-18T18:53:10Z</dcterms:modified>
  <cp:revision>1</cp:revision>
  <dc:subject/>
  <dc:title>DOL</dc:title>
</cp:coreProperties>
</file>